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This%20is%20Jeopardy.wav" ContentType="audio/x-wav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E310D-A6A2-4081-A7FD-6D9024D12B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1DCE6-E47F-43AC-89EA-F6F882BB76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98C2-B391-4F5C-B6B0-796E09B92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9B25-C018-4525-814B-2CBED9307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4C2C-014A-4951-AD16-3158B18C8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C0AA-3A5E-44FC-ABFB-5ED259828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9840-A50D-4956-8DE4-B50268F75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A7B6-AC95-4C24-A610-7D870BB5E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64D2-2AC4-47BE-9054-D199E6235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6C8A-9DC4-4DC0-B8E7-0E295FAE8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2B44-6BF7-409A-8418-AAD4A9F8D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CAFD-891F-4C44-9D20-B253CEB96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477C-527E-4F21-B8BE-46DAA344A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AEB2-C376-4B64-B559-4AC6D7949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10084-46A3-43D4-BE3C-EB90EB8B0DF9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3.xml"/><Relationship Id="rId3" Type="http://schemas.openxmlformats.org/officeDocument/2006/relationships/audio" Target="../media/This%20is%20Jeopardy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" Target=""/><Relationship Id="rId6" Type="http://schemas.openxmlformats.org/officeDocument/2006/relationships/slide" Target="slide55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14.xml"/><Relationship Id="rId10" Type="http://schemas.openxmlformats.org/officeDocument/2006/relationships/slide" Target="slide24.xml"/><Relationship Id="rId11" Type="http://schemas.openxmlformats.org/officeDocument/2006/relationships/slide" Target="slide34.xml"/><Relationship Id="rId12" Type="http://schemas.openxmlformats.org/officeDocument/2006/relationships/slide" Target="slide52.xml"/><Relationship Id="rId13" Type="http://schemas.openxmlformats.org/officeDocument/2006/relationships/slide" Target="slide16.xml"/><Relationship Id="rId14" Type="http://schemas.openxmlformats.org/officeDocument/2006/relationships/slide" Target="slide26.xml"/><Relationship Id="rId15" Type="http://schemas.openxmlformats.org/officeDocument/2006/relationships/slide" Target="slide36.xml"/><Relationship Id="rId16" Type="http://schemas.openxmlformats.org/officeDocument/2006/relationships/slide" Target="slide46.xml"/><Relationship Id="rId17" Type="http://schemas.openxmlformats.org/officeDocument/2006/relationships/slide" Target="slide18.xml"/><Relationship Id="rId18" Type="http://schemas.openxmlformats.org/officeDocument/2006/relationships/slide" Target="slide20.xml"/><Relationship Id="rId19" Type="http://schemas.openxmlformats.org/officeDocument/2006/relationships/slide" Target="slide22.xml"/><Relationship Id="rId20" Type="http://schemas.openxmlformats.org/officeDocument/2006/relationships/slide" Target="slide28.xml"/><Relationship Id="rId21" Type="http://schemas.openxmlformats.org/officeDocument/2006/relationships/slide" Target="slide38.xml"/><Relationship Id="rId22" Type="http://schemas.openxmlformats.org/officeDocument/2006/relationships/slide" Target="slide48.xml"/><Relationship Id="rId23" Type="http://schemas.openxmlformats.org/officeDocument/2006/relationships/slide" Target="slide30.xml"/><Relationship Id="rId24" Type="http://schemas.openxmlformats.org/officeDocument/2006/relationships/slide" Target="slide40.xml"/><Relationship Id="rId25" Type="http://schemas.openxmlformats.org/officeDocument/2006/relationships/slide" Target="slide50.xml"/><Relationship Id="rId26" Type="http://schemas.openxmlformats.org/officeDocument/2006/relationships/slide" Target="slide32.xml"/><Relationship Id="rId27" Type="http://schemas.openxmlformats.org/officeDocument/2006/relationships/slide" Target="slide44.xml"/><Relationship Id="rId28" Type="http://schemas.openxmlformats.org/officeDocument/2006/relationships/slide" Target="slide54.xml"/><Relationship Id="rId29" Type="http://schemas.openxmlformats.org/officeDocument/2006/relationships/slide" Target=""/><Relationship Id="rId30" Type="http://schemas.openxmlformats.org/officeDocument/2006/relationships/image" Target="../media/image2.png"/><Relationship Id="rId31" Type="http://schemas.openxmlformats.org/officeDocument/2006/relationships/slide" Target=""/><Relationship Id="rId3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838080" y="304920"/>
            <a:ext cx="678204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Jeopard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380880" y="3200400"/>
            <a:ext cx="8382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Choose a category.  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You will be given the answer.  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You must give the correct question.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0" name="AutoShape 7">
            <a:hlinkClick r:id="rId1" action="ppaction://hlinksldjump"/>
          </p:cNvPr>
          <p:cNvSpPr/>
          <p:nvPr/>
        </p:nvSpPr>
        <p:spPr>
          <a:xfrm>
            <a:off x="5867280" y="5334120"/>
            <a:ext cx="2743200" cy="1218960"/>
          </a:xfrm>
          <a:custGeom>
            <a:avLst/>
            <a:gdLst>
              <a:gd name="textAreaLeft" fmla="*/ 78840 w 2743200"/>
              <a:gd name="textAreaRight" fmla="*/ 2664360 w 274320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48602" h="21600">
                <a:moveTo>
                  <a:pt x="0" y="0"/>
                </a:moveTo>
                <a:lnTo>
                  <a:pt x="48602" y="0"/>
                </a:lnTo>
                <a:lnTo>
                  <a:pt x="48602" y="21600"/>
                </a:lnTo>
                <a:lnTo>
                  <a:pt x="0" y="21600"/>
                </a:lnTo>
                <a:close/>
              </a:path>
              <a:path fill="lightenLess" w="48602" h="21600">
                <a:moveTo>
                  <a:pt x="0" y="0"/>
                </a:moveTo>
                <a:lnTo>
                  <a:pt x="48602" y="0"/>
                </a:lnTo>
                <a:lnTo>
                  <a:pt x="47202" y="1400"/>
                </a:lnTo>
                <a:lnTo>
                  <a:pt x="1400" y="1400"/>
                </a:lnTo>
                <a:close/>
              </a:path>
              <a:path fill="darken" w="48602" h="21600">
                <a:moveTo>
                  <a:pt x="48602" y="0"/>
                </a:moveTo>
                <a:lnTo>
                  <a:pt x="48602" y="21600"/>
                </a:lnTo>
                <a:lnTo>
                  <a:pt x="47202" y="20200"/>
                </a:lnTo>
                <a:lnTo>
                  <a:pt x="47202" y="1400"/>
                </a:lnTo>
                <a:close/>
              </a:path>
              <a:path fill="darkenLess" w="48602" h="21600">
                <a:moveTo>
                  <a:pt x="486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2" y="20200"/>
                </a:lnTo>
                <a:close/>
              </a:path>
              <a:path fill="lighten" w="486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" action="ppaction://hlinksldjump"/>
              </a:rPr>
              <a:t>Click to begin.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his%20is%20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2" name="Text Box 2"/>
          <p:cNvSpPr/>
          <p:nvPr/>
        </p:nvSpPr>
        <p:spPr>
          <a:xfrm>
            <a:off x="304920" y="1752480"/>
            <a:ext cx="8381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685800" y="152388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How does Zaroff stock his island with game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685800" y="137160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He tricks them into thinking there is a channel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838080" y="1066680"/>
            <a:ext cx="7391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7" name="AutoShape 5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33"/>
                </a:solidFill>
                <a:latin typeface="Times New Roman"/>
              </a:rPr>
              <a:t>How does General Zaroff justify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9933"/>
                </a:solidFill>
                <a:latin typeface="Times New Roman"/>
              </a:rPr>
              <a:t>hunting and killing humans?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685800" y="213372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He believes he is only hunting the dregs of society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AutoShape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914400" y="1905120"/>
            <a:ext cx="71913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533520" y="205740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Describe the ending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685800" y="213372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Rainsford kills Zaroff and sleeps in his bed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762120" y="609480"/>
            <a:ext cx="7696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33"/>
                </a:solidFill>
                <a:latin typeface="Times New Roman"/>
              </a:rPr>
              <a:t>What does the author mean by "When he and himself agreed upon anything, the thing was done"? </a:t>
            </a:r>
            <a:br>
              <a:rPr sz="5400"/>
            </a:br>
            <a:endParaRPr b="1" lang="en-US" sz="5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609480" y="990720"/>
            <a:ext cx="78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king can have anything he wants and doesn’t have to answer to anyone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AutoShape 2">
            <a:hlinkClick r:id="rId1" action="ppaction://hlinksldjump"/>
          </p:cNvPr>
          <p:cNvSpPr/>
          <p:nvPr/>
        </p:nvSpPr>
        <p:spPr>
          <a:xfrm>
            <a:off x="0" y="15228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609480" y="83808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How had the princess found out what was behind each door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685800" y="213372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She used gold to bribe someone who knew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3"/>
          <p:cNvSpPr txBox="1"/>
          <p:nvPr/>
        </p:nvSpPr>
        <p:spPr>
          <a:xfrm>
            <a:off x="457200" y="0"/>
            <a:ext cx="57150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Choose a point value.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" name="WordArt 5"/>
          <p:cNvSpPr txBox="1"/>
          <p:nvPr/>
        </p:nvSpPr>
        <p:spPr>
          <a:xfrm>
            <a:off x="1523880" y="1981080"/>
            <a:ext cx="57150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Choose a point value.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3" name="AutoShape 10">
            <a:hlinkClick r:id="rId5" action="ppaction://hlinksldjump"/>
          </p:cNvPr>
          <p:cNvSpPr/>
          <p:nvPr/>
        </p:nvSpPr>
        <p:spPr>
          <a:xfrm>
            <a:off x="5562720" y="4724280"/>
            <a:ext cx="2971800" cy="1752840"/>
          </a:xfrm>
          <a:custGeom>
            <a:avLst/>
            <a:gdLst>
              <a:gd name="textAreaLeft" fmla="*/ 113400 w 2971800"/>
              <a:gd name="textAreaRight" fmla="*/ 2858400 w 2971800"/>
              <a:gd name="textAreaTop" fmla="*/ 113400 h 1752840"/>
              <a:gd name="textAreaBottom" fmla="*/ 1639440 h 1752840"/>
            </a:gdLst>
            <a:ahLst/>
            <a:rect l="textAreaLeft" t="textAreaTop" r="textAreaRight" b="textAreaBottom"/>
            <a:pathLst>
              <a:path w="36618" h="21600">
                <a:moveTo>
                  <a:pt x="0" y="0"/>
                </a:moveTo>
                <a:lnTo>
                  <a:pt x="36618" y="0"/>
                </a:lnTo>
                <a:lnTo>
                  <a:pt x="36618" y="21600"/>
                </a:lnTo>
                <a:lnTo>
                  <a:pt x="0" y="21600"/>
                </a:lnTo>
                <a:close/>
              </a:path>
              <a:path fill="lightenLess" w="36618" h="21600">
                <a:moveTo>
                  <a:pt x="0" y="0"/>
                </a:moveTo>
                <a:lnTo>
                  <a:pt x="36618" y="0"/>
                </a:lnTo>
                <a:lnTo>
                  <a:pt x="35218" y="1400"/>
                </a:lnTo>
                <a:lnTo>
                  <a:pt x="1400" y="1400"/>
                </a:lnTo>
                <a:close/>
              </a:path>
              <a:path fill="darken" w="36618" h="21600">
                <a:moveTo>
                  <a:pt x="36618" y="0"/>
                </a:moveTo>
                <a:lnTo>
                  <a:pt x="36618" y="21600"/>
                </a:lnTo>
                <a:lnTo>
                  <a:pt x="35218" y="20200"/>
                </a:lnTo>
                <a:lnTo>
                  <a:pt x="35218" y="1400"/>
                </a:lnTo>
                <a:close/>
              </a:path>
              <a:path fill="darkenLess" w="36618" h="21600">
                <a:moveTo>
                  <a:pt x="36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218" y="20200"/>
                </a:lnTo>
                <a:close/>
              </a:path>
              <a:path fill="lighten" w="36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5791320" y="51055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9933"/>
                </a:solidFill>
                <a:uFillTx/>
                <a:latin typeface="Times New Roman"/>
                <a:hlinkClick r:id="rId6" action="ppaction://hlinksldjump"/>
              </a:rPr>
              <a:t>Click here for Final Jeopardy</a:t>
            </a:r>
            <a:endParaRPr b="1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533520" y="16002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is story has an open ending, what does that mean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533520" y="533520"/>
            <a:ext cx="7848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author doesn’t wrap everything up. He lets the reader decide what happened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2">
            <a:hlinkClick r:id="rId1" action="ppaction://hlinksldjump"/>
          </p:cNvPr>
          <p:cNvSpPr/>
          <p:nvPr/>
        </p:nvSpPr>
        <p:spPr>
          <a:xfrm>
            <a:off x="0" y="-60948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533520" y="990720"/>
            <a:ext cx="8076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are the different types of conflicts in literature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685800" y="762120"/>
            <a:ext cx="7848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33"/>
                </a:solidFill>
                <a:latin typeface="Times New Roman"/>
              </a:rPr>
              <a:t>Man vs. man, man vs. nature, man vs. man, man vs. self</a:t>
            </a:r>
            <a:endParaRPr b="1" lang="en-US" sz="8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609480" y="121932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9933"/>
                </a:solidFill>
                <a:latin typeface="Times New Roman"/>
              </a:rPr>
              <a:t>Why was the man in the arena?</a:t>
            </a:r>
            <a:endParaRPr b="1" lang="en-US" sz="96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685800" y="457200"/>
            <a:ext cx="784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He had fallen in love with the Princess and the King didn’t approve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533520" y="609480"/>
            <a:ext cx="8001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33"/>
                </a:solidFill>
                <a:latin typeface="Times New Roman"/>
              </a:rPr>
              <a:t>What does the name "Fortunato" suggest? Why won’t the narrator tolerate insult without seeking revenge? </a:t>
            </a:r>
            <a:endParaRPr b="1" lang="en-US" sz="5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609480" y="685800"/>
            <a:ext cx="78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Fortune, he takes it as an insult against his entire family and ancestors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609480" y="144792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narrator offers some advice on seeking revenge. What is his advice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o do it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24">
            <a:hlinkClick r:id="rId1" action="ppaction://hlinksldjump"/>
          </p:cNvPr>
          <p:cNvSpPr/>
          <p:nvPr/>
        </p:nvSpPr>
        <p:spPr>
          <a:xfrm>
            <a:off x="182880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Category B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6" name="AutoShape 26">
            <a:hlinkClick r:id="rId2" action="ppaction://hlinksldjump"/>
          </p:cNvPr>
          <p:cNvSpPr/>
          <p:nvPr/>
        </p:nvSpPr>
        <p:spPr>
          <a:xfrm>
            <a:off x="548640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Category D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7" name="AutoShape 27">
            <a:hlinkClick r:id="rId3" action="ppaction://hlinksldjump"/>
          </p:cNvPr>
          <p:cNvSpPr/>
          <p:nvPr/>
        </p:nvSpPr>
        <p:spPr>
          <a:xfrm>
            <a:off x="734364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Category E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8" name="AutoShape 29"/>
          <p:cNvSpPr/>
          <p:nvPr/>
        </p:nvSpPr>
        <p:spPr>
          <a:xfrm>
            <a:off x="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4" action="ppaction://hlinksldjump"/>
              </a:rPr>
              <a:t>10 Point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9" name="AutoShape 30"/>
          <p:cNvSpPr/>
          <p:nvPr/>
        </p:nvSpPr>
        <p:spPr>
          <a:xfrm>
            <a:off x="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5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0" name="AutoShape 31"/>
          <p:cNvSpPr/>
          <p:nvPr/>
        </p:nvSpPr>
        <p:spPr>
          <a:xfrm>
            <a:off x="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6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1" name="AutoShape 32"/>
          <p:cNvSpPr/>
          <p:nvPr/>
        </p:nvSpPr>
        <p:spPr>
          <a:xfrm>
            <a:off x="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7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2" name="AutoShape 33"/>
          <p:cNvSpPr/>
          <p:nvPr/>
        </p:nvSpPr>
        <p:spPr>
          <a:xfrm>
            <a:off x="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8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3" name="AutoShape 34"/>
          <p:cNvSpPr/>
          <p:nvPr/>
        </p:nvSpPr>
        <p:spPr>
          <a:xfrm>
            <a:off x="182880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9" action="ppaction://hlinksldjump"/>
              </a:rPr>
              <a:t>10 Point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4" name="AutoShape 35"/>
          <p:cNvSpPr/>
          <p:nvPr/>
        </p:nvSpPr>
        <p:spPr>
          <a:xfrm>
            <a:off x="365760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0" action="ppaction://hlinksldjump"/>
              </a:rPr>
              <a:t>10 Point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5" name="AutoShape 36"/>
          <p:cNvSpPr/>
          <p:nvPr/>
        </p:nvSpPr>
        <p:spPr>
          <a:xfrm>
            <a:off x="548640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1" action="ppaction://hlinksldjump"/>
              </a:rPr>
              <a:t>10 Point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6" name="AutoShape 37"/>
          <p:cNvSpPr/>
          <p:nvPr/>
        </p:nvSpPr>
        <p:spPr>
          <a:xfrm>
            <a:off x="734364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2" action="ppaction://hlinksldjump"/>
              </a:rPr>
              <a:t>10 Point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7" name="AutoShape 39"/>
          <p:cNvSpPr/>
          <p:nvPr/>
        </p:nvSpPr>
        <p:spPr>
          <a:xfrm>
            <a:off x="182880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3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8" name="AutoShape 40"/>
          <p:cNvSpPr/>
          <p:nvPr/>
        </p:nvSpPr>
        <p:spPr>
          <a:xfrm>
            <a:off x="365760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4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9" name="AutoShape 41"/>
          <p:cNvSpPr/>
          <p:nvPr/>
        </p:nvSpPr>
        <p:spPr>
          <a:xfrm>
            <a:off x="548640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5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0" name="AutoShape 42"/>
          <p:cNvSpPr/>
          <p:nvPr/>
        </p:nvSpPr>
        <p:spPr>
          <a:xfrm>
            <a:off x="734364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6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1" name="AutoShape 44"/>
          <p:cNvSpPr/>
          <p:nvPr/>
        </p:nvSpPr>
        <p:spPr>
          <a:xfrm>
            <a:off x="182880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7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2" name="AutoShape 45"/>
          <p:cNvSpPr/>
          <p:nvPr/>
        </p:nvSpPr>
        <p:spPr>
          <a:xfrm>
            <a:off x="182880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8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3" name="AutoShape 46"/>
          <p:cNvSpPr/>
          <p:nvPr/>
        </p:nvSpPr>
        <p:spPr>
          <a:xfrm>
            <a:off x="182880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9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4" name="AutoShape 47"/>
          <p:cNvSpPr/>
          <p:nvPr/>
        </p:nvSpPr>
        <p:spPr>
          <a:xfrm>
            <a:off x="365760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0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5" name="AutoShape 48"/>
          <p:cNvSpPr/>
          <p:nvPr/>
        </p:nvSpPr>
        <p:spPr>
          <a:xfrm>
            <a:off x="548640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1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6" name="AutoShape 49"/>
          <p:cNvSpPr/>
          <p:nvPr/>
        </p:nvSpPr>
        <p:spPr>
          <a:xfrm>
            <a:off x="734364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2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7" name="AutoShape 51"/>
          <p:cNvSpPr/>
          <p:nvPr/>
        </p:nvSpPr>
        <p:spPr>
          <a:xfrm>
            <a:off x="365760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3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8" name="AutoShape 52"/>
          <p:cNvSpPr/>
          <p:nvPr/>
        </p:nvSpPr>
        <p:spPr>
          <a:xfrm>
            <a:off x="548640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4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9" name="AutoShape 53"/>
          <p:cNvSpPr/>
          <p:nvPr/>
        </p:nvSpPr>
        <p:spPr>
          <a:xfrm>
            <a:off x="734364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5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0" name="AutoShape 55"/>
          <p:cNvSpPr/>
          <p:nvPr/>
        </p:nvSpPr>
        <p:spPr>
          <a:xfrm>
            <a:off x="365760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6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1" name="AutoShape 56"/>
          <p:cNvSpPr/>
          <p:nvPr/>
        </p:nvSpPr>
        <p:spPr>
          <a:xfrm>
            <a:off x="548640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7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2" name="AutoShape 57"/>
          <p:cNvSpPr/>
          <p:nvPr/>
        </p:nvSpPr>
        <p:spPr>
          <a:xfrm>
            <a:off x="734364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8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3" name="AutoShape 60">
            <a:hlinkClick r:id="rId29" action="ppaction://hlinksldjump"/>
          </p:cNvPr>
          <p:cNvSpPr/>
          <p:nvPr/>
        </p:nvSpPr>
        <p:spPr>
          <a:xfrm>
            <a:off x="365760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Category C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84" name="Picture 61" descr=""/>
          <p:cNvPicPr/>
          <p:nvPr/>
        </p:nvPicPr>
        <p:blipFill>
          <a:blip r:embed="rId30"/>
          <a:stretch/>
        </p:blipFill>
        <p:spPr>
          <a:xfrm>
            <a:off x="68580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23">
            <a:hlinkClick r:id="rId31" action="ppaction://hlinksldjump"/>
          </p:cNvPr>
          <p:cNvSpPr/>
          <p:nvPr/>
        </p:nvSpPr>
        <p:spPr>
          <a:xfrm>
            <a:off x="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Category A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533520" y="914400"/>
            <a:ext cx="8076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How does the narrator behave around his "friend" Fortunato? 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He is phony nice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609480" y="609480"/>
            <a:ext cx="80773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33"/>
                </a:solidFill>
                <a:latin typeface="Times New Roman"/>
              </a:rPr>
              <a:t>What we know about the narrator? (Describe his social class, his attitude toward himself and others, his understanding of others?)</a:t>
            </a:r>
            <a:endParaRPr b="1" lang="en-US" sz="5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33"/>
                </a:solidFill>
                <a:latin typeface="Times New Roman"/>
              </a:rPr>
              <a:t>Why do you think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9933"/>
                </a:solidFill>
                <a:latin typeface="Times New Roman"/>
              </a:rPr>
              <a:t>Poe chose "dusk" 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33"/>
                </a:solidFill>
                <a:latin typeface="Times New Roman"/>
              </a:rPr>
              <a:t>and the carnival season 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33"/>
                </a:solidFill>
                <a:latin typeface="Times New Roman"/>
              </a:rPr>
              <a:t>as part of the setting for this story?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533520" y="533520"/>
            <a:ext cx="7848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Dusk represents the beginning of darkness, symbolic of evil and the end of life in this story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685800" y="914400"/>
            <a:ext cx="784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Fortunato is wearing a costume similar to that of a jester, why is this ironic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609480" y="190512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He is dressed as a clown, yet getting ready to kill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685800" y="213372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o is the author of </a:t>
            </a:r>
            <a:r>
              <a:rPr b="1" i="1" lang="en-US" sz="7200" spc="-1" strike="noStrike">
                <a:solidFill>
                  <a:srgbClr val="ff9933"/>
                </a:solidFill>
                <a:latin typeface="Times New Roman"/>
              </a:rPr>
              <a:t>Cask of Amontillado</a:t>
            </a: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762120" y="198108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Edgar Allen Poe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685800" y="533520"/>
            <a:ext cx="784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Name one other thing Poe wrote. (We didn’t read it in here, but we watched it)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5">
            <a:hlinkClick r:id="rId1" action="ppaction://hlinksldjump"/>
          </p:cNvPr>
          <p:cNvSpPr/>
          <p:nvPr/>
        </p:nvSpPr>
        <p:spPr>
          <a:xfrm>
            <a:off x="0" y="-7632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7" name="Text Box 2"/>
          <p:cNvSpPr/>
          <p:nvPr/>
        </p:nvSpPr>
        <p:spPr>
          <a:xfrm>
            <a:off x="2041560" y="1128600"/>
            <a:ext cx="183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412920" y="940320"/>
            <a:ext cx="8463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ow does Whitney function as a 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ans of foreshadowing in the 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ory?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533520" y="198108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Raven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Define Tone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Tone is the attitude a writer takes towards a subject or character: serious, humorous, sarcastic, ironic, satirical, tongue-in-cheek, solemn, objective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Define Mood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33"/>
                </a:solidFill>
                <a:latin typeface="Times New Roman"/>
              </a:rPr>
              <a:t>Mood is the feeling that a work 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33"/>
                </a:solidFill>
                <a:latin typeface="Times New Roman"/>
              </a:rPr>
              <a:t>of literature evokes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Define personification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533520" y="1828800"/>
            <a:ext cx="8076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Giving human qualities to non-human things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685800" y="213372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the setting of </a:t>
            </a:r>
            <a:r>
              <a:rPr b="1" i="1" lang="en-US" sz="7200" spc="-1" strike="noStrike">
                <a:solidFill>
                  <a:srgbClr val="ff9933"/>
                </a:solidFill>
                <a:latin typeface="Times New Roman"/>
              </a:rPr>
              <a:t>The Most Dangerous Game</a:t>
            </a: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Ship-trap Island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685800" y="213372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Did Rainsford’s attitude about hunting change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685800" y="304920"/>
            <a:ext cx="7848720" cy="62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9933"/>
                </a:solidFill>
                <a:latin typeface="Times New Roman"/>
              </a:rPr>
              <a:t>His function is to let the reader know the legend of the island, so we can predict what will happen nex</a:t>
            </a: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609480" y="68580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Yes, he learned to empathize with the hunted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2"/>
          <p:cNvSpPr/>
          <p:nvPr/>
        </p:nvSpPr>
        <p:spPr>
          <a:xfrm>
            <a:off x="0" y="-83808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685800" y="990720"/>
            <a:ext cx="78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Define protagonist, who is a protagonist in one of our stories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685800" y="198108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Rainsford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762120" y="1143000"/>
            <a:ext cx="784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Define Antagonist, who is an antagonist from our stories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685800" y="21337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King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1" name="WordArt 4"/>
          <p:cNvSpPr txBox="1"/>
          <p:nvPr/>
        </p:nvSpPr>
        <p:spPr>
          <a:xfrm>
            <a:off x="1066680" y="1752480"/>
            <a:ext cx="68580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inal Jeopard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4191120" y="5105520"/>
            <a:ext cx="3886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Make your wager</a:t>
            </a:r>
            <a:endParaRPr b="1" lang="en-US" sz="3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thinktheme[1]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94" name="AutoShape 2">
            <a:hlinkClick r:id="" action="ppaction://hlinkshowjump?jump=lastslide"/>
          </p:cNvPr>
          <p:cNvSpPr/>
          <p:nvPr/>
        </p:nvSpPr>
        <p:spPr>
          <a:xfrm>
            <a:off x="0" y="-15228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762120" y="457200"/>
            <a:ext cx="7848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Times New Roman"/>
              </a:rPr>
              <a:t>While reading </a:t>
            </a:r>
            <a:r>
              <a:rPr b="1" i="1" lang="en-US" sz="6000" spc="-1" strike="noStrike">
                <a:solidFill>
                  <a:srgbClr val="ff9933"/>
                </a:solidFill>
                <a:latin typeface="Times New Roman"/>
              </a:rPr>
              <a:t>The Cask of Amontillado</a:t>
            </a:r>
            <a:r>
              <a:rPr b="1" lang="en-US" sz="6000" spc="-1" strike="noStrike">
                <a:solidFill>
                  <a:srgbClr val="ff9933"/>
                </a:solidFill>
                <a:latin typeface="Times New Roman"/>
              </a:rPr>
              <a:t>, we discussed gothic elements, what are some of the gothic elements?</a:t>
            </a:r>
            <a:endParaRPr b="1" lang="en-US" sz="6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AutoShape 2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685800" y="762120"/>
            <a:ext cx="784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Times New Roman"/>
              </a:rPr>
              <a:t>Doubles, twins, ghosts, storms/fog, haunted houses, hidden rooms, century old vendettas, curses, people going crazy.</a:t>
            </a:r>
            <a:endParaRPr b="1" lang="en-US" sz="6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533520" y="2438280"/>
            <a:ext cx="8076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685800" y="1600200"/>
            <a:ext cx="7467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Describe how Rainsford ends up on the island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762120" y="762120"/>
            <a:ext cx="784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He drops his pipe and lunges for it, falling into the water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228600" y="1981080"/>
            <a:ext cx="8610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7" name="AutoShape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762120" y="838080"/>
            <a:ext cx="7467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Describe General Zaroff’s appearance and personality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609480" y="457200"/>
            <a:ext cx="784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He is obviously wealthy and well-educated. He never yells and is always polite to Rainsford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8T16:42:31Z</dcterms:created>
  <dc:creator>Valued Customer</dc:creator>
  <dc:description/>
  <dc:language>en-US</dc:language>
  <cp:lastModifiedBy>litchfield</cp:lastModifiedBy>
  <dcterms:modified xsi:type="dcterms:W3CDTF">2009-09-15T22:53:13Z</dcterms:modified>
  <cp:revision>32</cp:revision>
  <dc:subject/>
  <dc:title>No Slide Title</dc:title>
</cp:coreProperties>
</file>